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E34-BE27-4A34-B207-0E543C20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87E-AB7B-4E64-AA59-1AC3425F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C28A-FD9D-431D-A65B-0394C56B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1CF-6836-4258-A99D-21DAC495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E659-DD59-4BA7-8F9B-C58D51A0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30FE-9316-4D29-BC7F-F3DF2EB9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86A4-6956-4451-97FB-66EE4778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8F14-010D-4679-B254-D4642141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20A5-8A0C-4840-82B2-112B4B66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A934-D438-4ACD-B1E5-A76759AF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B2E6-51BE-4F45-9FF4-B37131EC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E2D-7719-4350-878A-6E132450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F305-9C69-4F5B-B493-68B745E43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Arial"/>
              </a:rPr>
              <a:t>Les Adjectifs Possessif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ésentation par Mlle. Sm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Mon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Ma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M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  <p:to>
                                        <p:strVal val="1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on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a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4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  <p:to>
                                        <p:strVal val="1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Son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Sa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Ses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4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  <p:to>
                                        <p:strVal val="1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Son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Sa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S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4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  <p:to>
                                        <p:strVal val="1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Notre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Notre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4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  <p:to>
                                        <p:strVal val="1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Votre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Votre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V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4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  <p:to>
                                        <p:strVal val="1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Leur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t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Leurs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vec 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4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  <p:to>
                                        <p:strVal val="1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7:06:25Z</dcterms:created>
  <dc:creator>asmith</dc:creator>
  <dc:description/>
  <dc:language>en-US</dc:language>
  <cp:lastModifiedBy>asmith</cp:lastModifiedBy>
  <dcterms:modified xsi:type="dcterms:W3CDTF">2012-04-18T17:27:10Z</dcterms:modified>
  <cp:revision>2</cp:revision>
  <dc:subject/>
  <dc:title>Mon Ma  Mes </dc:title>
</cp:coreProperties>
</file>